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06A7-430D-4FBC-B3C9-1B25EA5FC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DA79-21E9-4DA4-9026-3875D96DC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DCE3-EBEA-4F96-ACA7-740FF3042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3FBB-9EAF-4DBF-8CDB-E8BB74BB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9362-C169-4FAE-AE4E-208319F4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06C-4927-4C3E-A8E4-C7335F08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B88-C8B0-48C5-8422-88E0EDAE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EE1-AE7F-4DFE-B7F7-733ED789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FC9-D47B-470C-9587-64172328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E71B-051A-4020-A545-15F06BE8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AE0-0F91-4F50-AEFD-95BA3154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2B4-9A49-49D6-9D2F-D49DED23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0253-0721-40FE-B72F-7BE9D690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52D7-7544-4AF8-B0BB-960AFDE9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454-060C-4EDE-ACE4-184C6247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3178-70CB-41A5-A00B-30023466A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Text Box 10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Text Box 11"/>
            <p:cNvSpPr/>
            <p:nvPr/>
          </p:nvSpPr>
          <p:spPr>
            <a:xfrm>
              <a:off x="19440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6-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Text Box 12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Mean, Median, Mode and Ran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55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5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Mean, Median, Mode, and Ran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7">
            <a:hlinkClick r:id="" action="ppaction://hlinkshowjump?jump=nextslide"/>
          </p:cNvPr>
          <p:cNvSpPr/>
          <p:nvPr/>
        </p:nvSpPr>
        <p:spPr>
          <a:xfrm>
            <a:off x="3846600" y="235044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>
            <a:hlinkClick r:id="rId2" action="ppaction://hlinksldjump"/>
          </p:cNvPr>
          <p:cNvSpPr/>
          <p:nvPr/>
        </p:nvSpPr>
        <p:spPr>
          <a:xfrm>
            <a:off x="3886200" y="36457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>
            <a:hlinkClick r:id="rId3" action="ppaction://hlinksldjump"/>
          </p:cNvPr>
          <p:cNvSpPr/>
          <p:nvPr/>
        </p:nvSpPr>
        <p:spPr>
          <a:xfrm>
            <a:off x="3897720" y="30362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04920" y="990720"/>
            <a:ext cx="85341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d the mean of each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5"/>
          <p:cNvSpPr/>
          <p:nvPr/>
        </p:nvSpPr>
        <p:spPr>
          <a:xfrm>
            <a:off x="228600" y="3352680"/>
            <a:ext cx="6095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a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3 + 26 + 47 + 12 = 1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8 ÷ 4 = 3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228600" y="55627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an is 34.5 points. The average number of points scored is 34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7"/>
          <p:cNvSpPr/>
          <p:nvPr/>
        </p:nvSpPr>
        <p:spPr>
          <a:xfrm>
            <a:off x="579132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dd all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8"/>
          <p:cNvSpPr/>
          <p:nvPr/>
        </p:nvSpPr>
        <p:spPr>
          <a:xfrm>
            <a:off x="5791320" y="41464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ivide the sum by the number of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2057400"/>
          <a:ext cx="3962520" cy="8431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072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 of Points Sco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5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Oval 7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33520" y="1295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other descriptions of a set of data are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edian, mode, and r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33520" y="5318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360" indent="-117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difference between the least and greatest values in the set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33520" y="2362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edi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middle value when the data are in numerical order, or the mean of the two middle values if there are an even number of items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3520" y="36576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360" indent="-117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o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value or values that occur most often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may be more than one mode for a data set. When all values occur an equal number of times, the data set has no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5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04920" y="8380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Finding the Mean, Median, Mode, and Range of a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685800" y="37339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rite the data in numerical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4724280" y="373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1, 12, 14,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6858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ang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15 – 11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685800" y="3124080"/>
            <a:ext cx="3352320" cy="674640"/>
            <a:chOff x="685800" y="3124080"/>
            <a:chExt cx="3352320" cy="674640"/>
          </a:xfrm>
        </p:grpSpPr>
        <p:sp>
          <p:nvSpPr>
            <p:cNvPr id="118" name="Text Box 21"/>
            <p:cNvSpPr/>
            <p:nvPr/>
          </p:nvSpPr>
          <p:spPr>
            <a:xfrm>
              <a:off x="685800" y="3124080"/>
              <a:ext cx="33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ean: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</a:rPr>
                <a:t>12 + 11 + 14 + 15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2"/>
            <p:cNvSpPr/>
            <p:nvPr/>
          </p:nvSpPr>
          <p:spPr>
            <a:xfrm>
              <a:off x="2680920" y="3430440"/>
              <a:ext cx="6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23"/>
          <p:cNvSpPr/>
          <p:nvPr/>
        </p:nvSpPr>
        <p:spPr>
          <a:xfrm>
            <a:off x="3895560" y="3206880"/>
            <a:ext cx="14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685800" y="4187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an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11, 12, 14,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5"/>
          <p:cNvSpPr/>
          <p:nvPr/>
        </p:nvSpPr>
        <p:spPr>
          <a:xfrm>
            <a:off x="2209680" y="4146480"/>
            <a:ext cx="990720" cy="4572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6"/>
          <p:cNvGrpSpPr/>
          <p:nvPr/>
        </p:nvGrpSpPr>
        <p:grpSpPr>
          <a:xfrm>
            <a:off x="903240" y="4610160"/>
            <a:ext cx="2362320" cy="674640"/>
            <a:chOff x="903240" y="4610160"/>
            <a:chExt cx="2362320" cy="674640"/>
          </a:xfrm>
        </p:grpSpPr>
        <p:sp>
          <p:nvSpPr>
            <p:cNvPr id="124" name="Text Box 27"/>
            <p:cNvSpPr/>
            <p:nvPr/>
          </p:nvSpPr>
          <p:spPr>
            <a:xfrm>
              <a:off x="903240" y="461016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</a:rPr>
                <a:t>12 + 14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8"/>
            <p:cNvSpPr/>
            <p:nvPr/>
          </p:nvSpPr>
          <p:spPr>
            <a:xfrm>
              <a:off x="2309040" y="4916520"/>
              <a:ext cx="45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29"/>
          <p:cNvSpPr/>
          <p:nvPr/>
        </p:nvSpPr>
        <p:spPr>
          <a:xfrm>
            <a:off x="2895480" y="4697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0"/>
          <p:cNvSpPr/>
          <p:nvPr/>
        </p:nvSpPr>
        <p:spPr>
          <a:xfrm>
            <a:off x="685800" y="5181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d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1"/>
          <p:cNvSpPr/>
          <p:nvPr/>
        </p:nvSpPr>
        <p:spPr>
          <a:xfrm>
            <a:off x="685800" y="59119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an is 13, the median is 13, there is no mode, and the range is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3962520" y="4189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ff"/>
                </a:solidFill>
                <a:latin typeface="Verdana"/>
              </a:rPr>
              <a:t>There are an even number of items, so find the mean of the two middle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380880" y="15717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d the mean, median, mode, and range of the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828800" y="1981080"/>
          <a:ext cx="4267080" cy="1096920"/>
        </p:xfrm>
        <a:graphic>
          <a:graphicData uri="http://schemas.openxmlformats.org/drawingml/2006/table">
            <a:tbl>
              <a:tblPr/>
              <a:tblGrid>
                <a:gridCol w="2081160"/>
                <a:gridCol w="218592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Wash To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Grade     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Grade      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Grade     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Grade      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Oval 20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04920" y="8380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85800" y="35053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rite the data in numerical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800600" y="3505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1, 14, 17,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85800" y="5424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ang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22 – 11 =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685800" y="2895480"/>
            <a:ext cx="3352320" cy="674640"/>
            <a:chOff x="685800" y="2895480"/>
            <a:chExt cx="3352320" cy="674640"/>
          </a:xfrm>
        </p:grpSpPr>
        <p:sp>
          <p:nvSpPr>
            <p:cNvPr id="138" name="Text Box 7"/>
            <p:cNvSpPr/>
            <p:nvPr/>
          </p:nvSpPr>
          <p:spPr>
            <a:xfrm>
              <a:off x="685800" y="2895480"/>
              <a:ext cx="33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ean: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</a:rPr>
                <a:t>17 + 11 + 22 + 14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8"/>
            <p:cNvSpPr/>
            <p:nvPr/>
          </p:nvSpPr>
          <p:spPr>
            <a:xfrm>
              <a:off x="2680920" y="3201840"/>
              <a:ext cx="6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9"/>
          <p:cNvSpPr/>
          <p:nvPr/>
        </p:nvSpPr>
        <p:spPr>
          <a:xfrm>
            <a:off x="3895560" y="2978280"/>
            <a:ext cx="14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85800" y="40035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an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11, 14, 17,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2209680" y="3962520"/>
            <a:ext cx="990720" cy="4572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2"/>
          <p:cNvGrpSpPr/>
          <p:nvPr/>
        </p:nvGrpSpPr>
        <p:grpSpPr>
          <a:xfrm>
            <a:off x="903240" y="4425840"/>
            <a:ext cx="2362320" cy="674640"/>
            <a:chOff x="903240" y="4425840"/>
            <a:chExt cx="2362320" cy="674640"/>
          </a:xfrm>
        </p:grpSpPr>
        <p:sp>
          <p:nvSpPr>
            <p:cNvPr id="144" name="Text Box 13"/>
            <p:cNvSpPr/>
            <p:nvPr/>
          </p:nvSpPr>
          <p:spPr>
            <a:xfrm>
              <a:off x="903240" y="442584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</a:rPr>
                <a:t>14 + 17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4"/>
            <p:cNvSpPr/>
            <p:nvPr/>
          </p:nvSpPr>
          <p:spPr>
            <a:xfrm>
              <a:off x="2309040" y="4732200"/>
              <a:ext cx="45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5"/>
          <p:cNvSpPr/>
          <p:nvPr/>
        </p:nvSpPr>
        <p:spPr>
          <a:xfrm>
            <a:off x="2895480" y="4513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1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685800" y="49975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d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685800" y="5867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an is 16, the median is 15.5, there is no mode, and the range is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3962520" y="4005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ff"/>
                </a:solidFill>
                <a:latin typeface="Verdana"/>
              </a:rPr>
              <a:t>There are an even number of items, so find the mean of the two middle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380880" y="12193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d the mean, median, mode, and range of the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828800" y="1704960"/>
          <a:ext cx="4267080" cy="1096920"/>
        </p:xfrm>
        <a:graphic>
          <a:graphicData uri="http://schemas.openxmlformats.org/drawingml/2006/table">
            <a:tbl>
              <a:tblPr/>
              <a:tblGrid>
                <a:gridCol w="2081160"/>
                <a:gridCol w="218592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ke Sale To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Grade     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Grade      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Grade      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Grade      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Oval 20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1141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80880" y="1737000"/>
            <a:ext cx="8382240" cy="42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following data set:                              18, 20, 56, 47, 30, 18, 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rang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me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media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m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56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onnie ran a mile in 8 minutes, 8 minutes, 7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utes, 9 minutes, and 8 minutes. What wa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r mean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352680" y="2742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7924680" y="2742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3538440" y="3383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7924680" y="33962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838080" y="556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1600200"/>
            <a:ext cx="8229600" cy="42670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r the numbers from least to grea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, 6, 25, 7, 4,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60, 11, 27, 45,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20 ÷ 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60 ÷ 10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164120" y="2714040"/>
            <a:ext cx="273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4, 6, 7, 8, 12,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195080" y="344268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1, 27, 32, 45,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473920" y="497448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7161840" y="4974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6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57200" y="1371600"/>
            <a:ext cx="8381880" cy="4343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s. Red, Ms. Blue, and Ms. Green attended a holiday party. They each wore a different-colored dress, red, blue, or green. Ms. Red said to the lady wearing the blue dress, “Did you notice that none of us is wearing a dress with the color that corresponds to our name?” Who wore which color dr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5105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Ms. Red: green; Ms. Blue: red; Ms. Green: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the range, mean, median, and mode of a data set</a:t>
            </a:r>
            <a:r>
              <a:rPr b="0" lang="en-US" sz="3000" spc="-1" strike="noStrike">
                <a:solidFill>
                  <a:srgbClr val="000000"/>
                </a:solidFill>
                <a:latin typeface="AGaramon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914400" y="1828800"/>
            <a:ext cx="7162920" cy="2819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8"/>
          <p:cNvSpPr/>
          <p:nvPr/>
        </p:nvSpPr>
        <p:spPr>
          <a:xfrm>
            <a:off x="533520" y="18129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yers on a volleyball team measured how high they could jump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sults in inches are recorded in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533520" y="417528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way to describe this data set is to fin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sum of all the items divided by the number of items in the set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ometime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vera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The mean of this set of data is the average height that the vollyball team could jum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828800" y="3124080"/>
          <a:ext cx="4343400" cy="609840"/>
        </p:xfrm>
        <a:graphic>
          <a:graphicData uri="http://schemas.openxmlformats.org/drawingml/2006/table">
            <a:tbl>
              <a:tblPr/>
              <a:tblGrid>
                <a:gridCol w="620640"/>
                <a:gridCol w="620640"/>
                <a:gridCol w="621000"/>
                <a:gridCol w="618840"/>
                <a:gridCol w="621000"/>
                <a:gridCol w="631800"/>
                <a:gridCol w="6094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7" name="Oval 4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8"/>
          <p:cNvSpPr/>
          <p:nvPr/>
        </p:nvSpPr>
        <p:spPr>
          <a:xfrm>
            <a:off x="304920" y="9907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: Finding the Mean of a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2306520"/>
          <a:ext cx="4495680" cy="819360"/>
        </p:xfrm>
        <a:graphic>
          <a:graphicData uri="http://schemas.openxmlformats.org/drawingml/2006/table">
            <a:tbl>
              <a:tblPr/>
              <a:tblGrid>
                <a:gridCol w="642960"/>
                <a:gridCol w="641160"/>
                <a:gridCol w="642960"/>
                <a:gridCol w="641520"/>
                <a:gridCol w="642960"/>
                <a:gridCol w="641160"/>
                <a:gridCol w="642960"/>
              </a:tblGrid>
              <a:tr h="398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ths of Puddles (in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5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51"/>
          <p:cNvSpPr/>
          <p:nvPr/>
        </p:nvSpPr>
        <p:spPr>
          <a:xfrm>
            <a:off x="304920" y="350532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a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 + 8 + 3 + 5 + 4 + 2 + 1 =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8 ÷ 7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4"/>
          <p:cNvSpPr/>
          <p:nvPr/>
        </p:nvSpPr>
        <p:spPr>
          <a:xfrm>
            <a:off x="228600" y="56577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an is 4 in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6"/>
          <p:cNvSpPr/>
          <p:nvPr/>
        </p:nvSpPr>
        <p:spPr>
          <a:xfrm>
            <a:off x="6581880" y="35193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dd all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7"/>
          <p:cNvSpPr/>
          <p:nvPr/>
        </p:nvSpPr>
        <p:spPr>
          <a:xfrm>
            <a:off x="6553080" y="42670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ivide the sum by the number of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1"/>
          <p:cNvSpPr/>
          <p:nvPr/>
        </p:nvSpPr>
        <p:spPr>
          <a:xfrm>
            <a:off x="304920" y="1828800"/>
            <a:ext cx="8839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d the mean of each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8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04920" y="9907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: Finding the Mean of a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304920" y="365760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a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96 + 75 + 84 + 7 = 2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3 ÷ 4 = 6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228600" y="56577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an is 65.5 points. The average number of points scored is 65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7"/>
          <p:cNvSpPr/>
          <p:nvPr/>
        </p:nvSpPr>
        <p:spPr>
          <a:xfrm>
            <a:off x="5943600" y="3657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dd all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5943600" y="45277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ivide the sum by the number of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304920" y="1828800"/>
            <a:ext cx="5943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d the mean of each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2395440"/>
          <a:ext cx="3962520" cy="8431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072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 of Points Sco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5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Oval 8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04920" y="990720"/>
            <a:ext cx="85341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d the mean of each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0880" y="2133720"/>
          <a:ext cx="4496040" cy="819000"/>
        </p:xfrm>
        <a:graphic>
          <a:graphicData uri="http://schemas.openxmlformats.org/drawingml/2006/table">
            <a:tbl>
              <a:tblPr/>
              <a:tblGrid>
                <a:gridCol w="642960"/>
                <a:gridCol w="641520"/>
                <a:gridCol w="642960"/>
                <a:gridCol w="641160"/>
                <a:gridCol w="642960"/>
                <a:gridCol w="641520"/>
                <a:gridCol w="642960"/>
              </a:tblGrid>
              <a:tr h="398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infall per month (in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5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26"/>
          <p:cNvSpPr/>
          <p:nvPr/>
        </p:nvSpPr>
        <p:spPr>
          <a:xfrm>
            <a:off x="304920" y="33526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a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+ 2 + 10 + 2 + 5 + 6 + 9 =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5 ÷ 7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304920" y="557676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an is 5 in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1"/>
          <p:cNvSpPr/>
          <p:nvPr/>
        </p:nvSpPr>
        <p:spPr>
          <a:xfrm>
            <a:off x="6781680" y="3352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dd all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781680" y="419112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ivide the sum by the number of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8:57:59Z</dcterms:created>
  <dc:creator>Laurel Nissen</dc:creator>
  <dc:description/>
  <dc:language>en-US</dc:language>
  <cp:lastModifiedBy>New User</cp:lastModifiedBy>
  <dcterms:modified xsi:type="dcterms:W3CDTF">2012-05-13T17:21:24Z</dcterms:modified>
  <cp:revision>23</cp:revision>
  <dc:subject/>
  <dc:title>Slide 1</dc:title>
</cp:coreProperties>
</file>